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9FAA2-BEB4-4E62-A1A1-A4FE03704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AFA00-52CF-43B8-A795-86D6F1486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96E86-35AC-4332-8E4E-A8F8782DE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BFD89-2EC2-4CB1-B2F1-4BC99C057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C498B-A782-44CC-99C1-ED3E2EBF5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6C6B7-3760-460D-B029-AF48EC6FD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A7D5A-5EBC-4EAE-ADFE-F02A05440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8A7ED-C1A6-4E45-8716-6EB73D10C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A65C5-ACFA-4DF5-ACFF-60B2317BD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2C4A3-3CF5-4B92-8EE3-8763AB29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4E5A9-DE07-4E8F-AC22-71E9B3829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32EEF-B72E-4CC7-A70D-7A805999D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B75A2-5EC0-4979-B1D7-E02CD2D08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050B4-BFBC-41E2-A569-0118D7D3F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114E-AE9F-4AD8-A685-4BDF12F62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2FE04-711C-434A-82E6-6FF50EB7F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291A6-5E60-4592-BEF2-D79C057F9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AE338-6214-4E98-83E1-B7F05C6045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DEBE8-ED84-48D0-AB09-9846D39BD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204E3-659A-436E-BE44-45D3BAB29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3F7B8-BC34-4395-B8AE-AAF7B1E8A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0DE84-EE2C-4FAF-9A63-5C22EBFF0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E67A2-2BE7-4BA3-9BDC-AE7ADE473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490F3-C25C-4241-BAD2-C9D856A47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99018-5B39-485E-A1E7-BC3D38ECF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F4076-CF0B-434F-B274-C5878B6D1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10A7A-C289-4BEB-93D1-0BC097DD6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033E3-FF4F-4DB3-B8A7-12AC8A7C5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EB5DB0-C711-4253-9812-F34873C995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2959F-2703-44D9-A73A-C43BBB5C3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8982F-E7E3-4D39-93E4-9E42CC8F05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C9F66-FCF0-40AC-AD28-F3EED9F541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1C123-05D3-413F-8995-1118D3CD9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37D5B-11B5-41E1-B496-19922EC8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1807D-7436-424E-B910-6EDDEF7F2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B51E7-6646-4865-8652-946A3A33B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5B636-AEFA-4767-8A90-F41E58A28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1CE92-7496-4CE9-9197-1A3C553FF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0012C-5A71-4EB9-AE94-A84EAD942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BA819-AB09-4DED-B8CD-201D10620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2E6BB-20C3-4D58-863A-D16B843A6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F2469A-9411-44BA-856E-C457CDFCB3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D69D54-CD29-42EA-962B-32BFABA7C4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E5E659-B76B-4448-BB6D-08B50744C4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614D0-6AA4-4B8C-A16C-8D4533AD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48EF0-2777-4638-8BC6-58BFEBF0D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93222-24FC-483D-AB5C-A39545CCA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1BC19E-1CBE-44D6-BD25-7222643452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5CE4A-9A6F-468E-A4AB-72346B383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3839D-7FC3-4EE7-BF77-6B18086AFD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3CC2F7-7DC8-4197-B4DF-31BA66C64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182FB-01DA-4C32-AAE4-091895DA7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37AFF-AC51-446B-9C48-722D98F69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86769-692D-46CF-8C3F-3A21C21B8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9DC978-009D-46E2-B643-2F8D2C88B6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C345D-0922-42B8-BA8C-F7FB2AAF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86E089-641F-470A-A2BF-A3536AC227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EEE597-7DA4-4298-AD0C-1F7BB2EFA9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37C296-87BF-4A7D-9758-B7C92AB6CF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1C70A-0D39-478B-ACF3-DEFB77BB1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A7792-349E-408B-9098-8408237B4B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013AA3-F6E7-4A86-9A44-8DF98CA025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5EDCD-F9AC-4174-9BFE-567E78AD7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E5AC8-3514-46D0-96A5-A8141612B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3EBB8-C6F2-4D75-801D-DCBD12352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EABA09-B474-4E70-B9EC-6672156D8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0CE3F-6A66-4D4F-B83C-6C51763C8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B01BA-3BE8-44E2-B177-0D097F31A1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509EC9-2A57-4537-91D5-08803FA8C0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118897-1686-4D27-A969-78D560F774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529A-C614-4E8B-80A4-B98828B6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3AAA-7FD3-48B7-BAD2-5798C4F06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28A3-F841-4E76-91E1-CFA91DF8090E}"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9131-C071-40FE-9BB9-2A0BF3B8A0B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91"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24"/>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Rectangle 25"/>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26"/>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27"/>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AF34-DCB1-411B-A089-2B3318EB0D57}"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14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7"/>
          <p:cNvSpPr/>
          <p:nvPr/>
        </p:nvSpPr>
        <p:spPr>
          <a:xfrm>
            <a:off x="4829040" y="1073160"/>
            <a:ext cx="4321440" cy="579132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18"/>
          <p:cNvSpPr/>
          <p:nvPr/>
        </p:nvSpPr>
        <p:spPr>
          <a:xfrm>
            <a:off x="374760" y="0"/>
            <a:ext cx="5513400" cy="661500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9"/>
          <p:cNvSpPr/>
          <p:nvPr/>
        </p:nvSpPr>
        <p:spPr>
          <a:xfrm rot="5236200">
            <a:off x="4461120" y="1483200"/>
            <a:ext cx="4114800" cy="1189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20"/>
          <p:cNvSpPr/>
          <p:nvPr/>
        </p:nvSpPr>
        <p:spPr>
          <a:xfrm>
            <a:off x="5943600" y="0"/>
            <a:ext cx="27432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3"/>
          <p:cNvSpPr/>
          <p:nvPr/>
        </p:nvSpPr>
        <p:spPr>
          <a:xfrm>
            <a:off x="5943600" y="4267080"/>
            <a:ext cx="3200400" cy="11430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4"/>
          <p:cNvSpPr/>
          <p:nvPr/>
        </p:nvSpPr>
        <p:spPr>
          <a:xfrm>
            <a:off x="5943600" y="0"/>
            <a:ext cx="13716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25"/>
          <p:cNvSpPr/>
          <p:nvPr/>
        </p:nvSpPr>
        <p:spPr>
          <a:xfrm>
            <a:off x="5948280" y="4246560"/>
            <a:ext cx="2090880" cy="261144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6"/>
          <p:cNvSpPr/>
          <p:nvPr/>
        </p:nvSpPr>
        <p:spPr>
          <a:xfrm>
            <a:off x="5943600" y="4267080"/>
            <a:ext cx="16002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27"/>
          <p:cNvSpPr/>
          <p:nvPr/>
        </p:nvSpPr>
        <p:spPr>
          <a:xfrm>
            <a:off x="5943600" y="1371600"/>
            <a:ext cx="3200400" cy="28954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28"/>
          <p:cNvSpPr/>
          <p:nvPr/>
        </p:nvSpPr>
        <p:spPr>
          <a:xfrm>
            <a:off x="5943600" y="1752480"/>
            <a:ext cx="3200400" cy="25146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29"/>
          <p:cNvSpPr/>
          <p:nvPr/>
        </p:nvSpPr>
        <p:spPr>
          <a:xfrm>
            <a:off x="990720" y="4267080"/>
            <a:ext cx="495288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0"/>
          <p:cNvSpPr/>
          <p:nvPr/>
        </p:nvSpPr>
        <p:spPr>
          <a:xfrm>
            <a:off x="533520" y="4267080"/>
            <a:ext cx="533376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31"/>
          <p:cNvSpPr/>
          <p:nvPr/>
        </p:nvSpPr>
        <p:spPr>
          <a:xfrm>
            <a:off x="366840" y="2438280"/>
            <a:ext cx="5638680" cy="18288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2"/>
          <p:cNvSpPr/>
          <p:nvPr/>
        </p:nvSpPr>
        <p:spPr>
          <a:xfrm>
            <a:off x="366840" y="2133720"/>
            <a:ext cx="5638680" cy="213336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3"/>
          <p:cNvSpPr/>
          <p:nvPr/>
        </p:nvSpPr>
        <p:spPr>
          <a:xfrm>
            <a:off x="4572000" y="4267080"/>
            <a:ext cx="13716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4"/>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E209-7627-43EE-9F0B-72098DEF0D89}"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DABD-7150-4A50-B166-85936100D42C}"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4" name="Group 19"/>
          <p:cNvGrpSpPr/>
          <p:nvPr/>
        </p:nvGrpSpPr>
        <p:grpSpPr>
          <a:xfrm>
            <a:off x="8516880" y="1217520"/>
            <a:ext cx="128160" cy="131400"/>
            <a:chOff x="8516880" y="1217520"/>
            <a:chExt cx="128160" cy="131400"/>
          </a:xfrm>
        </p:grpSpPr>
        <p:sp>
          <p:nvSpPr>
            <p:cNvPr id="275"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6"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8" name="Group 25"/>
          <p:cNvGrpSpPr/>
          <p:nvPr/>
        </p:nvGrpSpPr>
        <p:grpSpPr>
          <a:xfrm>
            <a:off x="8669160" y="1370160"/>
            <a:ext cx="129240" cy="131400"/>
            <a:chOff x="8669160" y="1370160"/>
            <a:chExt cx="129240" cy="131400"/>
          </a:xfrm>
        </p:grpSpPr>
        <p:sp>
          <p:nvSpPr>
            <p:cNvPr id="279"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0"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82" name="Group 29"/>
          <p:cNvGrpSpPr/>
          <p:nvPr/>
        </p:nvGrpSpPr>
        <p:grpSpPr>
          <a:xfrm>
            <a:off x="8321760" y="1473120"/>
            <a:ext cx="128160" cy="131400"/>
            <a:chOff x="8321760" y="1473120"/>
            <a:chExt cx="128160" cy="131400"/>
          </a:xfrm>
        </p:grpSpPr>
        <p:sp>
          <p:nvSpPr>
            <p:cNvPr id="283"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88"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D630-5BD0-4A9A-9EFF-33E1EA24DCF0}"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2133360"/>
            <a:ext cx="7772400" cy="322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alisto MT"/>
              </a:rPr>
              <a:t>Project Seminar On Modeling of Armature Controlled D.C Motor Using MATLAB</a:t>
            </a:r>
            <a:endParaRPr b="0" lang="en-US" sz="4000" spc="-1" strike="noStrike">
              <a:solidFill>
                <a:srgbClr val="f8f8f8"/>
              </a:solidFill>
              <a:latin typeface="Consola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6"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What is DC Motor</a:t>
            </a:r>
            <a:endParaRPr b="0" lang="en-US" sz="4000" spc="-1" strike="noStrike">
              <a:solidFill>
                <a:srgbClr val="f8f8f8"/>
              </a:solidFill>
              <a:latin typeface="Consolas"/>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irect current (DC) motor is a fairly simple electric motor that uses electricity and a </a:t>
            </a:r>
            <a:r>
              <a:rPr b="0" lang="en-US" sz="2400" spc="-1" strike="noStrike">
                <a:solidFill>
                  <a:srgbClr val="66ff99"/>
                </a:solidFill>
                <a:latin typeface="Corbel"/>
              </a:rPr>
              <a:t>magnetic field</a:t>
            </a:r>
            <a:r>
              <a:rPr b="0" lang="en-US" sz="2400" spc="-1" strike="noStrike">
                <a:solidFill>
                  <a:srgbClr val="ffffff"/>
                </a:solidFill>
                <a:latin typeface="Corbel"/>
              </a:rPr>
              <a:t> to produce torque, which turns the motor. </a:t>
            </a:r>
            <a:endParaRPr b="0" lang="en-US" sz="2400" spc="-1" strike="noStrike">
              <a:solidFill>
                <a:srgbClr val="ffffff"/>
              </a:solidFill>
              <a:latin typeface="Corbel"/>
            </a:endParaRPr>
          </a:p>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c motor is used to convert electrical energy into mechanical energy for driving loads.</a:t>
            </a:r>
            <a:endParaRPr b="0" lang="en-US" sz="2400" spc="-1" strike="noStrike">
              <a:solidFill>
                <a:srgbClr val="ffffff"/>
              </a:solidFill>
              <a:latin typeface="Corbel"/>
            </a:endParaRPr>
          </a:p>
          <a:p>
            <a:pPr marL="40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30" name="Picture 4" descr=""/>
          <p:cNvPicPr/>
          <p:nvPr/>
        </p:nvPicPr>
        <p:blipFill>
          <a:blip r:embed="rId1"/>
          <a:stretch/>
        </p:blipFill>
        <p:spPr>
          <a:xfrm>
            <a:off x="4800600" y="1828800"/>
            <a:ext cx="4343400" cy="236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600"/>
            <a:ext cx="8229600" cy="100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PRINCIPLE OF OPERATION</a:t>
            </a:r>
            <a:endParaRPr b="0" lang="en-US" sz="4000" spc="-1" strike="noStrike">
              <a:solidFill>
                <a:srgbClr val="f8f8f8"/>
              </a:solidFill>
              <a:latin typeface="Consolas"/>
            </a:endParaRPr>
          </a:p>
        </p:txBody>
      </p:sp>
      <p:sp>
        <p:nvSpPr>
          <p:cNvPr id="332" name=""/>
          <p:cNvSpPr txBox="1"/>
          <p:nvPr/>
        </p:nvSpPr>
        <p:spPr>
          <a:xfrm>
            <a:off x="0" y="1295280"/>
            <a:ext cx="9144000" cy="556272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eration of a dc motor is based on </a:t>
            </a:r>
            <a:r>
              <a:rPr b="0" lang="en-US" sz="3000" spc="-1" strike="noStrike">
                <a:solidFill>
                  <a:srgbClr val="66ff99"/>
                </a:solidFill>
                <a:latin typeface="Corbel"/>
              </a:rPr>
              <a:t>electromagnetism</a:t>
            </a:r>
            <a:r>
              <a:rPr b="0" lang="en-US" sz="3000" spc="-1" strike="noStrike">
                <a:solidFill>
                  <a:srgbClr val="ffffff"/>
                </a:solidFill>
                <a:latin typeface="Corbel"/>
              </a:rPr>
              <a:t>.</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0" lang="en-US" sz="3000" spc="-1" strike="noStrike">
                <a:solidFill>
                  <a:srgbClr val="66ff99"/>
                </a:solidFill>
                <a:latin typeface="Corbel"/>
              </a:rPr>
              <a:t>current </a:t>
            </a:r>
            <a:r>
              <a:rPr b="0" lang="en-US" sz="3000" spc="-1" strike="noStrike">
                <a:solidFill>
                  <a:srgbClr val="ffffff"/>
                </a:solidFill>
                <a:latin typeface="Corbel"/>
              </a:rPr>
              <a:t>-carrying conductor generates a magnetic field; when this is then placed in an external magnetic field, it will experience a force proportional to the </a:t>
            </a:r>
            <a:r>
              <a:rPr b="0" lang="en-US" sz="3000" spc="-1" strike="noStrike">
                <a:solidFill>
                  <a:srgbClr val="66ff99"/>
                </a:solidFill>
                <a:latin typeface="Corbel"/>
              </a:rPr>
              <a:t>current</a:t>
            </a:r>
            <a:r>
              <a:rPr b="0" lang="en-US" sz="3000" spc="-1" strike="noStrike">
                <a:solidFill>
                  <a:srgbClr val="ffffff"/>
                </a:solidFill>
                <a:latin typeface="Corbel"/>
              </a:rPr>
              <a:t> in the conductor, and to the strength of the external magnetic field. </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4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ddddd"/>
                </a:solidFill>
                <a:latin typeface="Arial"/>
              </a:rPr>
              <a:t> </a:t>
            </a:r>
            <a:endParaRPr b="0" lang="en-US" sz="4200" spc="-1" strike="noStrike">
              <a:solidFill>
                <a:srgbClr val="000000"/>
              </a:solidFill>
              <a:latin typeface="Arial"/>
            </a:endParaRPr>
          </a:p>
        </p:txBody>
      </p:sp>
      <p:pic>
        <p:nvPicPr>
          <p:cNvPr id="334" name="Picture 8" descr="dc motor operation"/>
          <p:cNvPicPr/>
          <p:nvPr/>
        </p:nvPicPr>
        <p:blipFill>
          <a:blip r:embed="rId1"/>
          <a:stretch/>
        </p:blipFill>
        <p:spPr>
          <a:xfrm>
            <a:off x="304920" y="114300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olas"/>
              </a:rPr>
              <a:t>METHODS OF SPEED CONTROL OF DC MOTOR</a:t>
            </a:r>
            <a:endParaRPr b="0" lang="en-US" sz="4000" spc="-1" strike="noStrike">
              <a:solidFill>
                <a:srgbClr val="f8f8f8"/>
              </a:solidFill>
              <a:latin typeface="Consolas"/>
            </a:endParaRPr>
          </a:p>
        </p:txBody>
      </p:sp>
      <p:sp>
        <p:nvSpPr>
          <p:cNvPr id="336" name=""/>
          <p:cNvSpPr txBox="1"/>
          <p:nvPr/>
        </p:nvSpPr>
        <p:spPr>
          <a:xfrm>
            <a:off x="914400" y="2438280"/>
            <a:ext cx="7772400" cy="391824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K V-IaRa\</a:t>
            </a:r>
            <a:r>
              <a:rPr b="0" lang="en-US" sz="3000" spc="-1" strike="noStrike">
                <a:solidFill>
                  <a:srgbClr val="ffffff"/>
                </a:solidFill>
                <a:latin typeface="Symbol"/>
                <a:ea typeface="Symbol"/>
              </a:rPr>
              <a:t></a:t>
            </a:r>
            <a:r>
              <a:rPr b="0" lang="en-US" sz="3000" spc="-1" strike="noStrike">
                <a:solidFill>
                  <a:srgbClr val="ffffff"/>
                </a:solidFill>
                <a:latin typeface="Corbel"/>
              </a:rPr>
              <a:t>  r.p.s Flux\ Pole</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ux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heostatic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oltage control method.</a:t>
            </a:r>
            <a:endParaRPr b="0" lang="en-US" sz="3000" spc="-1" strike="noStrike">
              <a:solidFill>
                <a:srgbClr val="ffffff"/>
              </a:solidFill>
              <a:latin typeface="Corbel"/>
            </a:endParaRPr>
          </a:p>
        </p:txBody>
      </p:sp>
      <p:pic>
        <p:nvPicPr>
          <p:cNvPr id="337" name="Picture 5" descr="motor"/>
          <p:cNvPicPr/>
          <p:nvPr/>
        </p:nvPicPr>
        <p:blipFill>
          <a:blip r:embed="rId1"/>
          <a:stretch/>
        </p:blipFill>
        <p:spPr>
          <a:xfrm>
            <a:off x="5486400" y="4495680"/>
            <a:ext cx="2933640" cy="17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Calisto MT"/>
              </a:rPr>
              <a:t>Armature controlled method</a:t>
            </a:r>
            <a:endParaRPr b="0" lang="en-US" sz="4400" spc="-1" strike="noStrike">
              <a:solidFill>
                <a:srgbClr val="f8f8f8"/>
              </a:solidFill>
              <a:latin typeface="Consolas"/>
            </a:endParaRPr>
          </a:p>
        </p:txBody>
      </p:sp>
      <p:sp>
        <p:nvSpPr>
          <p:cNvPr id="339" name=""/>
          <p:cNvSpPr txBox="1"/>
          <p:nvPr/>
        </p:nvSpPr>
        <p:spPr>
          <a:xfrm>
            <a:off x="457200" y="1447920"/>
            <a:ext cx="8229600" cy="4525920"/>
          </a:xfrm>
          <a:prstGeom prst="rect">
            <a:avLst/>
          </a:prstGeom>
          <a:noFill/>
          <a:ln w="0">
            <a:noFill/>
          </a:ln>
        </p:spPr>
        <p:txBody>
          <a:bodyPr anchor="t">
            <a:normAutofit fontScale="91000"/>
          </a:bodyPr>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he armature voltage control method, the voltage applied to the armature circuit, Va is varied without changing the voltage applied to the field circuit of the motor. Therefore, the motor must be separately excited to use armature voltage control.</a:t>
            </a:r>
            <a:endParaRPr b="0" lang="en-US" sz="2800" spc="-1" strike="noStrike">
              <a:solidFill>
                <a:srgbClr val="ffffff"/>
              </a:solidFill>
              <a:latin typeface="Corbel"/>
            </a:endParaRPr>
          </a:p>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2800" spc="-1" strike="noStrike">
                <a:solidFill>
                  <a:srgbClr val="ffffff"/>
                </a:solidFill>
                <a:latin typeface="Corbel"/>
              </a:rPr>
              <a:t>When the armature voltage is increased, the no-load speed of the motor increases while the slope of the torque-speed curve remains unchanged since the flux is kept constant [10]. </a:t>
            </a: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0" y="13968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19:54:55Z</dcterms:created>
  <dc:creator>Mechanical Engineering Project</dc:creator>
  <dc:description/>
  <dc:language>en-US</dc:language>
  <cp:lastModifiedBy>Brigade</cp:lastModifiedBy>
  <dcterms:modified xsi:type="dcterms:W3CDTF">2011-08-09T14:14:17Z</dcterms:modified>
  <cp:revision>0</cp:revision>
  <dc:subject/>
  <dc:title>Mechanical Engineering Project</dc:title>
</cp:coreProperties>
</file>